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792-7D3E-47AC-9FA0-AF62F86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0F4-60BA-4935-9903-8F7DB10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9FA-85D6-4139-B40A-02F76F83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400-3DC3-4032-B2A4-D97F8EA1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44D-247B-4FF8-A617-D21F664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DC5-CBE7-4CC2-A2A4-BF974A74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CD2-716D-4DCB-B97E-44F0B63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2F3-79D3-45DB-81ED-B8CBEFD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D37-DA04-45D4-89EB-89B5A80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6FD-119C-45E1-882C-61325C95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9BB-3183-4454-A548-0DC55F03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C2D-CF89-45A7-AC0F-14E119F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FF8-0598-4CBA-AB58-7ADF36289C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How can we show that plants use carbon dioxide in photosynthes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_caroliniana_fish2u"/>
          <p:cNvPicPr/>
          <p:nvPr/>
        </p:nvPicPr>
        <p:blipFill>
          <a:blip r:embed="rId1"/>
          <a:stretch/>
        </p:blipFill>
        <p:spPr>
          <a:xfrm>
            <a:off x="3419640" y="2637000"/>
            <a:ext cx="2678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 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nv0072"/>
          <p:cNvPicPr/>
          <p:nvPr/>
        </p:nvPicPr>
        <p:blipFill>
          <a:blip r:embed="rId1"/>
          <a:stretch/>
        </p:blipFill>
        <p:spPr>
          <a:xfrm>
            <a:off x="108000" y="2924280"/>
            <a:ext cx="8820000" cy="1982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50920" y="1916280"/>
            <a:ext cx="20890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asing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77080" y="1844640"/>
            <a:ext cx="19429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reasing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64000" y="1916280"/>
            <a:ext cx="16574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mospheric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7812000" y="2708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323640" y="2708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C_caroliniana_fish2u"/>
          <p:cNvPicPr/>
          <p:nvPr/>
        </p:nvPicPr>
        <p:blipFill>
          <a:blip r:embed="rId2"/>
          <a:stretch/>
        </p:blipFill>
        <p:spPr>
          <a:xfrm>
            <a:off x="7524720" y="260280"/>
            <a:ext cx="903240" cy="1290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611280" y="5229360"/>
            <a:ext cx="82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179280" y="49417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 indicator is used to measure carbon dioxide levels in aquatic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red in equilibrium with atmospheric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becomes more orange/yellow with increased carbon dioxide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hanges from red through magenta to deep purple as carbon dioxide is rem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5280" y="145440"/>
            <a:ext cx="79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four transparent containers that can be easily s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a standard volume of indicator to each container and in three of the containers, place equal length sprigs of pondweed e.g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bo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l all the contain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 one with pondweed into a dark cup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nother containing pondweed and cover it with sh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 the three remaining containers (including the one with no plant in), the same distance from a bright white light source and leave until there is a noticeable change in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he lamp will not cause your pond water to overheat. You might want to place a transparent screen between the light and the plant, or a flat sided container of cold water to absorb the heat but none of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is a noticeable change in color in the indicator, remove the shading and compare the colors in the four containers to those in the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89000"/>
            <a:ext cx="8496360" cy="175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mportant Inform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plants and algae use up carbon dioxide – removing it from the indicator as they carry out photo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.. they also produce carbon dioxide as they respire – all living things respire all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08080" y="456336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r would the indicator go if you breathed out int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r would the indicator go if the plant is respiring and carrying out photosynthesis at the same rate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the two times of the day that this is most likely to happen? NIGHT, DAWN, MID MORNING, LUNCHTIME, AFTERNOON, DU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912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 in brigh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HOTOSYTHESIS  19263 copy"/>
          <p:cNvPicPr/>
          <p:nvPr/>
        </p:nvPicPr>
        <p:blipFill>
          <a:blip r:embed="rId1"/>
          <a:stretch/>
        </p:blipFill>
        <p:spPr>
          <a:xfrm>
            <a:off x="395280" y="14842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562120" y="3860640"/>
            <a:ext cx="6426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 with thin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ydrogen carbonate shade"/>
          <p:cNvPicPr/>
          <p:nvPr/>
        </p:nvPicPr>
        <p:blipFill>
          <a:blip r:embed="rId1"/>
          <a:stretch/>
        </p:blipFill>
        <p:spPr>
          <a:xfrm>
            <a:off x="468360" y="162864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2770200" y="4005360"/>
            <a:ext cx="63928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 in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ydrogen carbonate dark"/>
          <p:cNvPicPr/>
          <p:nvPr/>
        </p:nvPicPr>
        <p:blipFill>
          <a:blip r:embed="rId1"/>
          <a:stretch/>
        </p:blipFill>
        <p:spPr>
          <a:xfrm>
            <a:off x="250920" y="155736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124000" y="3665520"/>
            <a:ext cx="6902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0:54:42Z</dcterms:created>
  <dc:creator>Daniel Gilby</dc:creator>
  <dc:description/>
  <dc:language>en-US</dc:language>
  <cp:lastModifiedBy>Carl R. Pratt</cp:lastModifiedBy>
  <cp:lastPrinted>2013-08-11T15:51:10Z</cp:lastPrinted>
  <dcterms:modified xsi:type="dcterms:W3CDTF">2013-08-11T17:32:38Z</dcterms:modified>
  <cp:revision>20</cp:revision>
  <dc:subject/>
  <dc:title>How can we prove that plants use carbon dioxide in photosynthesis?</dc:title>
</cp:coreProperties>
</file>